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6.jpeg" ContentType="image/jpeg"/>
  <Override PartName="/ppt/media/chimes.wav" ContentType="audio/x-wav"/>
  <Override PartName="/ppt/media/image7.jpeg" ContentType="image/jpeg"/>
  <Override PartName="/ppt/media/bomb.wav" ContentType="audio/x-wav"/>
  <Override PartName="/ppt/media/image9.png" ContentType="image/png"/>
  <Override PartName="/ppt/media/image27.gif" ContentType="image/gif"/>
  <Override PartName="/ppt/media/image1.jpeg" ContentType="image/jpeg"/>
  <Override PartName="/ppt/media/image25.gif" ContentType="image/gif"/>
  <Override PartName="/ppt/media/image6.jpeg" ContentType="image/jpeg"/>
  <Override PartName="/ppt/media/applause.wav" ContentType="audio/x-wav"/>
  <Override PartName="/ppt/media/image28.gif" ContentType="image/gif"/>
  <Override PartName="/ppt/media/image30.jpeg" ContentType="image/jpeg"/>
  <Override PartName="/ppt/media/drumroll.wav" ContentType="audio/x-wav"/>
  <Override PartName="/ppt/media/image3.jpeg" ContentType="image/jpeg"/>
  <Override PartName="/ppt/media/image5.jpeg" ContentType="image/jpeg"/>
  <Override PartName="/ppt/media/image4.jpeg" ContentType="image/jpeg"/>
  <Override PartName="/ppt/media/image2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4.wmf" ContentType="image/x-wmf"/>
  <Override PartName="/ppt/media/image20.jpeg" ContentType="image/jpeg"/>
  <Override PartName="/ppt/media/image26.gif" ContentType="image/gif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0AE-18D4-4647-9BE9-B62E8E3E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C8FC-8F22-443D-A264-5DCC8805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3D3-7AB8-4DB3-8AAB-ABB82181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ED2-7F63-4188-B5D8-1CD705C3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F86-5CFB-48DA-A81C-6DE09145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2C24-B329-4D3B-B457-5BC72CAB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880C-5964-43D4-A208-99DF266C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D985-1453-41C5-8FED-206EAD7C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0D3F-7989-47FE-9C10-168B6A50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26C2-5566-42F6-BB08-C36D6F37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390-9F3E-4185-B651-AF8E843A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59C0-575A-4F4F-BFDB-0D5BCC9F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92C6-AFC8-4E70-BBE2-7B1056A4D9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applause.wav" TargetMode="External"/><Relationship Id="rId2" Type="http://schemas.microsoft.com/office/2007/relationships/media" Target="file:///usr/lib/libreoffice/share/gallery/sounds/applause.wa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audio" Target="../media/bomb.wav"/><Relationship Id="rId5" Type="http://schemas.openxmlformats.org/officeDocument/2006/relationships/audio" Target="../media/chimes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125360"/>
            <a:ext cx="63374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坚定目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胜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4608720" cy="6191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12000" y="981000"/>
            <a:ext cx="259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虽然只得银牌，但他们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不惧困难、顽强拼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精神感动了世界，在人们的心中他们已获得了“金牌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6699"/>
                </a:solidFill>
                <a:latin typeface="Times New Roman"/>
                <a:ea typeface="华文新魏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人在生活中难免要遇到各种挫折和失败，在这种情况下，“屡败屡战”固然可贵，但最为可贵的是当事者头脑更冷静，要善于思索受挫折或失败的原因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“吃一堑，长一智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应该是智者的选择。作为学生的我们，不应当在学习的挫折面前盲目蠢干，更不应心灰意冷，而应当汲取教训，总结经验，以利再战，正如文中所说：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成功不仅仅需要信心、激情和坚韧，还需要清醒的头脑，需要理智的</a:t>
            </a:r>
            <a:r>
              <a:rPr b="1" i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选择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200" y="907920"/>
            <a:ext cx="892980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260280"/>
            <a:ext cx="806436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　　那</a:t>
            </a:r>
            <a:r>
              <a:rPr b="1" lang="en-US" sz="2400" spc="-1" strike="noStrike">
                <a:solidFill>
                  <a:srgbClr val="808080"/>
                </a:solidFill>
                <a:latin typeface="黑体"/>
                <a:ea typeface="黑体"/>
              </a:rPr>
              <a:t>3%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的人，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25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年来几乎都不曾更改过自己的人生目标，他们始终朝着同一个方向不懈地努力。</a:t>
            </a:r>
            <a:r>
              <a:rPr b="1" lang="en-US" sz="2400" spc="-1" strike="noStrike">
                <a:solidFill>
                  <a:srgbClr val="808080"/>
                </a:solidFill>
                <a:latin typeface="黑体"/>
                <a:ea typeface="黑体"/>
              </a:rPr>
              <a:t>25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年后，他们几乎都成了社会各界顶尖成功人士，他们中不乏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白手创业者、行业领袖、社会精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938240"/>
            <a:ext cx="8064360" cy="45972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　　那</a:t>
            </a:r>
            <a:r>
              <a:rPr b="1" lang="en-US" sz="2400" spc="-1" strike="noStrike">
                <a:solidFill>
                  <a:srgbClr val="808080"/>
                </a:solidFill>
                <a:latin typeface="黑体"/>
                <a:ea typeface="黑体"/>
              </a:rPr>
              <a:t>10%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的人，大都生活在社会的中上层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他们的共同特点是，那些短期目标不断地被达到，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生活质量稳步上升。他们成为各行各业不可缺少的专业人士，如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医生、律师、工程师、高级主管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809880"/>
            <a:ext cx="806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　　那</a:t>
            </a:r>
            <a:r>
              <a:rPr b="1" lang="en-US" sz="2400" spc="-1" strike="noStrike">
                <a:solidFill>
                  <a:srgbClr val="808080"/>
                </a:solidFill>
                <a:latin typeface="黑体"/>
                <a:ea typeface="黑体"/>
              </a:rPr>
              <a:t>60%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的人，几乎都生活在社会的中下层面。他们能安稳地生活与工作，但都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没有什么特别的成绩。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952880"/>
            <a:ext cx="806472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　　剩下的</a:t>
            </a:r>
            <a:r>
              <a:rPr b="1" lang="en-US" sz="2400" spc="-1" strike="noStrike">
                <a:solidFill>
                  <a:srgbClr val="808080"/>
                </a:solidFill>
                <a:latin typeface="黑体"/>
                <a:ea typeface="黑体"/>
              </a:rPr>
              <a:t>27%</a:t>
            </a:r>
            <a:r>
              <a:rPr b="1" lang="zh-CN" sz="2400" spc="-1" strike="noStrike">
                <a:solidFill>
                  <a:srgbClr val="808080"/>
                </a:solidFill>
                <a:latin typeface="黑体"/>
                <a:ea typeface="黑体"/>
              </a:rPr>
              <a:t>的人，他们几乎都生活在社会的最底层，他们的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生活都过得很不如意，常常失业，靠社会救济，并且常常在抱怨他人，抱怨社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916360" y="1341360"/>
            <a:ext cx="3313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目标明确 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2924280"/>
            <a:ext cx="7920000" cy="5814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要想获得成功，就必须要确定一个清晰可见的目标，因为目标是人奋勇向前的动力源泉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55640" y="189000"/>
            <a:ext cx="7416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目标高中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852720" cy="2879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16360" y="2394000"/>
            <a:ext cx="3672000" cy="2835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9640" y="5734080"/>
            <a:ext cx="360072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开平一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5734080"/>
            <a:ext cx="367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开侨中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478400" cy="3351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292720" y="765000"/>
            <a:ext cx="3672000" cy="4032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68360" y="3716280"/>
            <a:ext cx="45352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4360" y="-1440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中考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目标学校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9640" y="1484280"/>
          <a:ext cx="8352000" cy="4735440"/>
        </p:xfrm>
        <a:graphic>
          <a:graphicData uri="http://schemas.openxmlformats.org/drawingml/2006/table">
            <a:tbl>
              <a:tblPr/>
              <a:tblGrid>
                <a:gridCol w="1339920"/>
                <a:gridCol w="1001880"/>
                <a:gridCol w="1001520"/>
                <a:gridCol w="1001880"/>
                <a:gridCol w="1001520"/>
                <a:gridCol w="1001880"/>
                <a:gridCol w="1003320"/>
                <a:gridCol w="10000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期 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考 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第一次模拟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第二次模拟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第三次模拟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第四次模拟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隶书"/>
                        </a:rPr>
                        <a:t>中 考  目 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中 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新宋体"/>
                          <a:ea typeface="新宋体"/>
                        </a:rPr>
                        <a:t>政治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新宋体"/>
                          <a:ea typeface="新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新宋体"/>
                          <a:ea typeface="新宋体"/>
                        </a:rPr>
                        <a:t>语文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新宋体"/>
                          <a:ea typeface="新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新宋体"/>
                          <a:ea typeface="新宋体"/>
                        </a:rPr>
                        <a:t>数学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新宋体"/>
                          <a:ea typeface="新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新宋体"/>
                          <a:ea typeface="新宋体"/>
                        </a:rPr>
                        <a:t>英语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新宋体"/>
                          <a:ea typeface="新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新宋体"/>
                          <a:ea typeface="新宋体"/>
                        </a:rPr>
                        <a:t>物理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新宋体"/>
                          <a:ea typeface="新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新宋体"/>
                          <a:ea typeface="新宋体"/>
                        </a:rPr>
                        <a:t>化学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新宋体"/>
                          <a:ea typeface="新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新宋体"/>
                          <a:ea typeface="新宋体"/>
                        </a:rPr>
                        <a:t>体育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新宋体"/>
                          <a:ea typeface="新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新宋体"/>
                          <a:ea typeface="新宋体"/>
                        </a:rPr>
                        <a:t>总分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新宋体"/>
                          <a:ea typeface="新宋体"/>
                        </a:rPr>
                        <a:t>6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00"/>
                          </a:solidFill>
                          <a:latin typeface="新宋体"/>
                          <a:ea typeface="新宋体"/>
                        </a:rPr>
                        <a:t>班排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00"/>
                          </a:solidFill>
                          <a:latin typeface="新宋体"/>
                          <a:ea typeface="新宋体"/>
                        </a:rPr>
                        <a:t>级排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00"/>
                          </a:solidFill>
                          <a:latin typeface="新宋体"/>
                          <a:ea typeface="新宋体"/>
                        </a:rPr>
                        <a:t>市排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0"/>
            <a:ext cx="8640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现实生活中，当一件事被认为是不可能时，我们就会为不可能找到许多理由，例如：我的智商没有别人高，我吃不了苦，我天生记忆力差，我不是学数学的那块料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从而</a:t>
            </a: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使这个不可能显得理所当然，我们也就当然不会采取积极有效的行动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最终的结果肯定是这件事</a:t>
            </a:r>
            <a:r>
              <a:rPr b="1" i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真的成了不可能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87280" y="5013360"/>
            <a:ext cx="7315200" cy="15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不怕你做不到，就怕你想不到。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578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5280" y="333360"/>
            <a:ext cx="8209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位日本马拉松长跑运动员，他的身体条件并不比其他国家的运动员更具优势，但他取得了最后的胜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2349360"/>
            <a:ext cx="8209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    “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我没有什么秘诀，我只是将整个赛程以明显的建筑物标志分成若干个小目标，对于每个小目标，我都以百米冲刺的激情去跑完它，同时又以同样的激情去冲刺下一个目标，直到终点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5300640"/>
            <a:ext cx="889308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以达到小目标，去激励自己实现大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843280" y="333360"/>
            <a:ext cx="331308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坚定信念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547640" y="1916280"/>
            <a:ext cx="605016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想要，而且是一定要！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03280" y="3068640"/>
            <a:ext cx="6629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心动不如行动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87280" y="4724280"/>
            <a:ext cx="55454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爱拼才会赢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7236000" y="5229360"/>
            <a:ext cx="1533240" cy="76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00000" y="476280"/>
            <a:ext cx="6985080" cy="23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你开始行动了吗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835280" y="3500280"/>
            <a:ext cx="2303280" cy="827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732720" y="4365720"/>
            <a:ext cx="2087280" cy="223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95280" y="5013360"/>
            <a:ext cx="3097080" cy="1406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292720" y="3284640"/>
            <a:ext cx="2158920" cy="1224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635280" y="4502160"/>
            <a:ext cx="25210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916360" y="4149720"/>
            <a:ext cx="5616360" cy="24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冲刺</a:t>
            </a: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2006</a:t>
            </a:r>
            <a:r>
              <a:rPr b="0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中考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4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476280"/>
            <a:ext cx="828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都灵冬奥会，我国选手在花样滑冰比赛中获得历来最好的表现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2492280"/>
            <a:ext cx="73454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华文新魏"/>
                <a:ea typeface="华文新魏"/>
              </a:rPr>
              <a:t>第二名：张丹 、张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华文新魏"/>
                <a:ea typeface="华文新魏"/>
              </a:rPr>
              <a:t>第三名：申雪、赵宏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华文新魏"/>
                <a:ea typeface="华文新魏"/>
              </a:rPr>
              <a:t>第四名：庞清、佟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03280" y="264960"/>
            <a:ext cx="6985080" cy="65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464000" cy="3371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64000" y="404640"/>
            <a:ext cx="2853000" cy="4114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87280" y="4221000"/>
            <a:ext cx="2303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坚持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放弃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140360" y="501336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13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16:46Z</dcterms:modified>
  <cp:revision>14</cp:revision>
  <dc:subject>主题班会课件(分28大类): http://shop62905894.taobao.com</dc:subject>
  <dc:title>主题班会课件(分28大类): http://shop62905894.taobao.com</dc:title>
</cp:coreProperties>
</file>